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22.wmf" ContentType="image/x-wmf"/>
  <Override PartName="/ppt/media/image8.gif" ContentType="image/gif"/>
  <Override PartName="/ppt/media/image11.gif" ContentType="image/gif"/>
  <Override PartName="/ppt/media/image6.gif" ContentType="image/gif"/>
  <Override PartName="/ppt/media/image5.wmf" ContentType="image/x-wmf"/>
  <Override PartName="/ppt/media/chimes.wav" ContentType="audio/x-wav"/>
  <Override PartName="/ppt/media/image7.wmf" ContentType="image/x-wmf"/>
  <Override PartName="/ppt/media/image23.gif" ContentType="image/gif"/>
  <Override PartName="/ppt/media/image4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6.wmf" ContentType="image/x-wmf"/>
  <Override PartName="/ppt/media/image15.gif" ContentType="image/gif"/>
  <Override PartName="/ppt/media/image17.png" ContentType="image/png"/>
  <Override PartName="/ppt/media/image14.gif" ContentType="image/gif"/>
  <Override PartName="/ppt/media/image13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1D6-831F-41FB-9639-3AAAA7D8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987-2460-4FD1-BDC8-CC8C9B7D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31E-6F26-4509-ABC5-DEF404D3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EC1-F4C1-40AF-AF8B-CFCC5B75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B7D-4023-4169-8C4C-2C97D1DA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66C-CD70-440F-9525-718C19FD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CF9-0122-42CB-9689-368FFD74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4C4-9C0B-4C53-B8F9-D6E56948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E1B-1C43-4C72-B269-76DD64E4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9C1-9061-457C-B056-19D9ACE1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139-1C30-4772-829A-F9327157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C3C-795C-4F41-A06F-230C49CE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7D64-72F7-4A95-8493-B9C188ACB7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5.xml"/><Relationship Id="rId3" Type="http://schemas.openxmlformats.org/officeDocument/2006/relationships/image" Target="../media/image6.gi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9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4.gif"/><Relationship Id="rId3" Type="http://schemas.openxmlformats.org/officeDocument/2006/relationships/slide" Target="slide19.xml"/><Relationship Id="rId4" Type="http://schemas.openxmlformats.org/officeDocument/2006/relationships/image" Target="../media/image14.gif"/><Relationship Id="rId5" Type="http://schemas.openxmlformats.org/officeDocument/2006/relationships/slide" Target="slide13.xml"/><Relationship Id="rId6" Type="http://schemas.openxmlformats.org/officeDocument/2006/relationships/image" Target="../media/image14.gif"/><Relationship Id="rId7" Type="http://schemas.openxmlformats.org/officeDocument/2006/relationships/slide" Target="slide23.xml"/><Relationship Id="rId8" Type="http://schemas.openxmlformats.org/officeDocument/2006/relationships/image" Target="../media/image9.gif"/><Relationship Id="rId9" Type="http://schemas.openxmlformats.org/officeDocument/2006/relationships/slide" Target="slide18.xml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2.xml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12.xml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" Target="slide12.xml"/><Relationship Id="rId3" Type="http://schemas.openxmlformats.org/officeDocument/2006/relationships/image" Target="../media/image14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4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3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9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9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9.gif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6.gif"/><Relationship Id="rId4" Type="http://schemas.openxmlformats.org/officeDocument/2006/relationships/slide" Target="slide10.xml"/><Relationship Id="rId5" Type="http://schemas.openxmlformats.org/officeDocument/2006/relationships/image" Target="../media/image6.gif"/><Relationship Id="rId6" Type="http://schemas.openxmlformats.org/officeDocument/2006/relationships/slide" Target="slide8.xml"/><Relationship Id="rId7" Type="http://schemas.openxmlformats.org/officeDocument/2006/relationships/image" Target="../media/image6.gif"/><Relationship Id="rId8" Type="http://schemas.openxmlformats.org/officeDocument/2006/relationships/slide" Target="slide11.xml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6.gif"/><Relationship Id="rId3" Type="http://schemas.openxmlformats.org/officeDocument/2006/relationships/image" Target="../media/image8.gi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5.xml"/><Relationship Id="rId3" Type="http://schemas.openxmlformats.org/officeDocument/2006/relationships/image" Target="../media/image6.gi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9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1823760" cy="182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34920" y="1676520"/>
            <a:ext cx="548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文鼎行楷碑体"/>
              </a:rPr>
              <a:t>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文鼎行楷碑体"/>
              </a:rPr>
              <a:t>想要专心听讲，有同学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文鼎行楷碑体"/>
              </a:rPr>
              <a:t>我说话怎么办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733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7560" y="3790800"/>
            <a:ext cx="215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文鼎行楷碑体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文鼎行楷碑体"/>
              </a:rPr>
              <a:t>、用手势或眼神提醒他，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文鼎行楷碑体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文鼎行楷碑体"/>
              </a:rPr>
              <a:t>师在注意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文鼎行楷碑体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文鼎行楷碑体"/>
              </a:rPr>
              <a:t>、用手势和眼神表示拒绝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文鼎行楷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38880" y="5638680"/>
            <a:ext cx="914400" cy="768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29600" y="5715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0" y="3657600"/>
            <a:ext cx="2743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文鼎行楷碑体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文鼎行楷碑体"/>
              </a:rPr>
              <a:t>我每天认真完成作业，为什么成绩仍不够理想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504720"/>
            <a:ext cx="2514600" cy="1019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880" y="2971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文鼎淹水体"/>
              </a:rPr>
              <a:t>问题根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40920" y="3733920"/>
            <a:ext cx="5033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文鼎行楷碑体"/>
              </a:rPr>
              <a:t>因为做作业之前必须先复习，再独立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文鼎行楷碑体"/>
              </a:rPr>
              <a:t>成作业，而不是一边做作业，遇到了问题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文鼎行楷碑体"/>
              </a:rPr>
              <a:t>赶快翻书、查公式、看概念的含义，这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文鼎行楷碑体"/>
              </a:rPr>
              <a:t>看来看去，作业质量就很难保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文鼎淹水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1752480"/>
            <a:ext cx="2971800" cy="29718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文鼎淹水体"/>
              </a:rPr>
              <a:t>复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14600" y="9349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回忆再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71600" y="30481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细读教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78200" y="5049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整理笔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0686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及时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2200" y="2895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" y="2895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895480" y="762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91520" y="5181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48120" y="4876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文鼎淹水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77120" y="4029120"/>
            <a:ext cx="1885680" cy="2295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29000" y="2432160"/>
            <a:ext cx="2666880" cy="2368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743200" y="19810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9625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285640" y="441972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24920" y="5181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睡觉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248520" y="182844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69080" y="114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车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3505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276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做作业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92560" y="3200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做作业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1066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685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685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685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685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685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685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685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900000" y="0"/>
            <a:ext cx="15591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文鼎淹水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4920" y="390600"/>
            <a:ext cx="2133360" cy="1743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514600" y="1143000"/>
            <a:ext cx="4495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细读教材的注意事项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"/>
          <p:cNvSpPr/>
          <p:nvPr/>
        </p:nvSpPr>
        <p:spPr>
          <a:xfrm>
            <a:off x="3845520" y="2492280"/>
            <a:ext cx="1107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注意：不能理解和未能记住的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勾画和批注教材中的新概念、公式、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理和定律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切莫疏漏教材中不是黑体字，但又很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要的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文鼎淹水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8080" y="1143000"/>
            <a:ext cx="8305920" cy="5257800"/>
          </a:xfrm>
          <a:prstGeom prst="cloudCallout">
            <a:avLst>
              <a:gd name="adj1" fmla="val -47935"/>
              <a:gd name="adj2" fmla="val -4134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57680" y="819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文鼎行楷碑体"/>
              </a:rPr>
              <a:t>记一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69560" y="2182680"/>
            <a:ext cx="7145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                         里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日                     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白                         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83760" y="1447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93240" y="5459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18920" y="1219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50640" y="1496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40560" y="42400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26360" y="1905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73200" y="2590920"/>
            <a:ext cx="66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69760" y="4849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78840" y="3021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7280" y="4011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97960" y="5154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946280" y="4011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2480" y="31240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03280" y="2639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文鼎淹水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57680" y="819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文鼎行楷碑体"/>
              </a:rPr>
              <a:t>记一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1295280"/>
            <a:ext cx="7848720" cy="4953240"/>
          </a:xfrm>
          <a:prstGeom prst="cloudCallout">
            <a:avLst>
              <a:gd name="adj1" fmla="val -47814"/>
              <a:gd name="adj2" fmla="val -7467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2438280"/>
            <a:ext cx="551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文鼎行楷碑体"/>
              </a:rPr>
              <a:t>白日依山尽  黄河入海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文鼎行楷碑体"/>
              </a:rPr>
              <a:t>欲穷千里目  更上一层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文鼎淹水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280" y="146160"/>
            <a:ext cx="2667240" cy="2368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965320" y="14158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意义识记与机械识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9720" y="2714760"/>
            <a:ext cx="522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意义识记的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优越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容易记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保留时间较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9608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581640" y="3660840"/>
            <a:ext cx="155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机械识记的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必要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生活中常碰到许多无意义的或意义较少的材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：电话号码、地名、人名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保证记忆的准确性。如：公式、法则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儿童时期常常靠机械识记记住许多东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：文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文鼎淹水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057400" cy="1646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2590920" y="99072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美黑简体"/>
              </a:rPr>
              <a:t>笔记整理的注意事项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美黑简体"/>
              <a:ea typeface="方正美黑简体"/>
            </a:endParaRPr>
          </a:p>
        </p:txBody>
      </p:sp>
      <p:sp>
        <p:nvSpPr>
          <p:cNvPr id="185" name=""/>
          <p:cNvSpPr/>
          <p:nvPr/>
        </p:nvSpPr>
        <p:spPr>
          <a:xfrm>
            <a:off x="4035960" y="2363760"/>
            <a:ext cx="1644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将课堂上不全的笔记补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将记得不准确、不正确的地方修改过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不要花费太多时间美化笔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笔记一定要线索清楚、重点突出、内容简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867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8153280" y="3429000"/>
            <a:ext cx="7318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849400"/>
            <a:ext cx="1447920" cy="7318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刺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2133720"/>
            <a:ext cx="1523880" cy="6858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4876920"/>
            <a:ext cx="1523880" cy="6858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遗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4800600"/>
            <a:ext cx="1600200" cy="6858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2743200"/>
            <a:ext cx="1828800" cy="914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瞬时记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2759040"/>
            <a:ext cx="1752480" cy="898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时记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2666880"/>
            <a:ext cx="1752480" cy="97812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时记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124080"/>
            <a:ext cx="685800" cy="152640"/>
          </a:xfrm>
          <a:custGeom>
            <a:avLst/>
            <a:gdLst>
              <a:gd name="textAreaLeft" fmla="*/ 106920 w 685800"/>
              <a:gd name="textAreaRight" fmla="*/ 600120 w 685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124080"/>
            <a:ext cx="685800" cy="152640"/>
          </a:xfrm>
          <a:custGeom>
            <a:avLst/>
            <a:gdLst>
              <a:gd name="textAreaLeft" fmla="*/ 106920 w 685800"/>
              <a:gd name="textAreaRight" fmla="*/ 600120 w 685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124080"/>
            <a:ext cx="685800" cy="152640"/>
          </a:xfrm>
          <a:custGeom>
            <a:avLst/>
            <a:gdLst>
              <a:gd name="textAreaLeft" fmla="*/ 106920 w 685800"/>
              <a:gd name="textAreaRight" fmla="*/ 600120 w 685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486400" y="1752480"/>
            <a:ext cx="914400" cy="838440"/>
          </a:xfrm>
          <a:custGeom>
            <a:avLst/>
            <a:gdLst>
              <a:gd name="textAreaLeft" fmla="*/ 181440 w 914400"/>
              <a:gd name="textAreaRight" fmla="*/ 641520 w 91440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80" hR="21600" stAng="10800000" swAng="5400000"/>
                <a:lnTo>
                  <a:pt x="10860" y="0"/>
                </a:lnTo>
                <a:arcTo wR="8580" hR="21600" stAng="-5400000" swAng="2899731"/>
                <a:lnTo>
                  <a:pt x="21109" y="14400"/>
                </a:lnTo>
                <a:lnTo>
                  <a:pt x="18300" y="21600"/>
                </a:lnTo>
                <a:lnTo>
                  <a:pt x="14509" y="14400"/>
                </a:lnTo>
                <a:lnTo>
                  <a:pt x="16669" y="14400"/>
                </a:lnTo>
                <a:arcTo wR="8580" hR="21600" stAng="-2500269" swAng="-2716844"/>
                <a:lnTo>
                  <a:pt x="9720" y="192"/>
                </a:lnTo>
                <a:arcTo wR="8580" hR="21600" stAng="-5582887" swAng="-5217113"/>
                <a:close/>
              </a:path>
              <a:path fill="darkenLess" w="21600" h="21600">
                <a:moveTo>
                  <a:pt x="0" y="21600"/>
                </a:moveTo>
                <a:arcTo wR="8580" hR="21600" stAng="10800000" swAng="5400000"/>
                <a:lnTo>
                  <a:pt x="8580" y="0"/>
                </a:lnTo>
                <a:arcTo wR="8580" hR="21600" stAng="-5400000" swAng="182887"/>
                <a:lnTo>
                  <a:pt x="9720" y="192"/>
                </a:lnTo>
                <a:arcTo wR="8580" hR="21600" stAng="-5582887" swAng="-5217113"/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3733920"/>
            <a:ext cx="152640" cy="914400"/>
          </a:xfrm>
          <a:prstGeom prst="downArrowCallout">
            <a:avLst>
              <a:gd name="adj1" fmla="val 25002"/>
              <a:gd name="adj2" fmla="val 25000"/>
              <a:gd name="adj3" fmla="val 99843"/>
              <a:gd name="adj4" fmla="val 66667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3809880"/>
            <a:ext cx="152280" cy="914400"/>
          </a:xfrm>
          <a:prstGeom prst="downArrowCallout">
            <a:avLst>
              <a:gd name="adj1" fmla="val 25002"/>
              <a:gd name="adj2" fmla="val 25000"/>
              <a:gd name="adj3" fmla="val 100079"/>
              <a:gd name="adj4" fmla="val 66667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968720"/>
            <a:ext cx="3581280" cy="1432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2880" y="1447920"/>
            <a:ext cx="887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文鼎粗钢笔行楷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文鼎粗钢笔行楷"/>
              </a:rPr>
              <a:t>人最宝贵的是生命，生命属于人只有一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文鼎粗钢笔行楷"/>
              </a:rPr>
              <a:t>人的一生应当这样度过：当他回首往事的时候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文鼎粗钢笔行楷"/>
              </a:rPr>
              <a:t>不会因为碌碌无为、虚度年华而悔恨，也不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文鼎粗钢笔行楷"/>
              </a:rPr>
              <a:t>因为为人卑劣、生活庸俗而愧疚。这样，在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文鼎粗钢笔行楷"/>
              </a:rPr>
              <a:t>终的时候，他就能说：我也把自己的整个生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文鼎粗钢笔行楷"/>
              </a:rPr>
              <a:t>和全部精力献给了世界上最壮丽的事业——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文鼎粗钢笔行楷"/>
              </a:rPr>
              <a:t>人类解放而奋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3520" y="5791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11120" y="11192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11120" y="462456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35160" y="1500120"/>
            <a:ext cx="3045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235160" y="2109240"/>
            <a:ext cx="3045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235160" y="2719440"/>
            <a:ext cx="3045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35160" y="3328920"/>
            <a:ext cx="3045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235160" y="4014720"/>
            <a:ext cx="3045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844640" y="4471200"/>
            <a:ext cx="763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530440" y="4471200"/>
            <a:ext cx="763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16240" y="4471200"/>
            <a:ext cx="763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902040" y="4471200"/>
            <a:ext cx="763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959440" y="4471200"/>
            <a:ext cx="763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273640" y="4471200"/>
            <a:ext cx="763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587840" y="4471200"/>
            <a:ext cx="763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16040" y="1500120"/>
            <a:ext cx="38088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79640" y="3429000"/>
            <a:ext cx="382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38098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411480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2680" y="1312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2320" y="192240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8640" y="2532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2320" y="306540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8640" y="3827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4680" y="4890960"/>
            <a:ext cx="49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天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天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天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天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天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天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20960" y="332892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9920" y="3962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9920" y="4114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4800" y="30654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30440" y="3505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7320" y="380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781680" y="3352680"/>
            <a:ext cx="2316240" cy="33530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048120" y="838080"/>
            <a:ext cx="30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艾宾浩斯遗忘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78000" y="685800"/>
            <a:ext cx="3429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30480" y="68580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160" y="623880"/>
            <a:ext cx="14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38120" y="6238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685800"/>
            <a:ext cx="16761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2920" y="685800"/>
            <a:ext cx="16761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2895480"/>
            <a:ext cx="685800" cy="457200"/>
          </a:xfrm>
          <a:prstGeom prst="leftRightArrow">
            <a:avLst>
              <a:gd name="adj1" fmla="val 50000"/>
              <a:gd name="adj2" fmla="val 2986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2895480"/>
            <a:ext cx="685800" cy="457200"/>
          </a:xfrm>
          <a:prstGeom prst="leftRightArrow">
            <a:avLst>
              <a:gd name="adj1" fmla="val 50000"/>
              <a:gd name="adj2" fmla="val 2986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4160" y="623880"/>
            <a:ext cx="15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67320" y="6094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990720"/>
            <a:ext cx="228600" cy="3045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62320" y="990720"/>
            <a:ext cx="304560" cy="30456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01000" y="58672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33520" y="380880"/>
            <a:ext cx="807696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380880"/>
            <a:ext cx="0" cy="548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12760" y="501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第一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1040" y="52056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第二天—第七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52280" y="1305000"/>
            <a:ext cx="315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早—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15-30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分钟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第一次识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中—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15-30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分钟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第二次识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下午—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15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分钟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第三次重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睡前—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15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分钟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第四次重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114300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7400" y="3168720"/>
            <a:ext cx="19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每天一次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15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080" y="2533680"/>
            <a:ext cx="2011320" cy="18860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81120" y="3352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文鼎行楷碑体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1873080"/>
            <a:ext cx="6400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如何制定学习计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预习的作用及存在的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怎么才可以专心听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如何复习才能取得最好的效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1905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438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153280" y="4114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21139800">
            <a:off x="914040" y="129492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宋体"/>
              </a:rPr>
              <a:t>如何胜任学习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6" name=""/>
          <p:cNvSpPr txBox="1"/>
          <p:nvPr/>
        </p:nvSpPr>
        <p:spPr>
          <a:xfrm rot="505800">
            <a:off x="2971440" y="2590920"/>
            <a:ext cx="39337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宋体"/>
              </a:rPr>
              <a:t>学习习惯的培养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6321960" y="5867280"/>
            <a:ext cx="20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 初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71840" y="6248520"/>
            <a:ext cx="16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  王一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7720" y="3048120"/>
            <a:ext cx="57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们应该怎么样学习才能更轻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愉快的取得更出色的学习成绩？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该分为哪几个步骤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1859040" cy="2210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82720" y="380880"/>
            <a:ext cx="2895480" cy="1295640"/>
          </a:xfrm>
          <a:prstGeom prst="cloudCallout">
            <a:avLst>
              <a:gd name="adj1" fmla="val -57236"/>
              <a:gd name="adj2" fmla="val 59680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3600" y="457200"/>
            <a:ext cx="192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学习妙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大家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12800" y="1398600"/>
            <a:ext cx="582480" cy="1420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533520"/>
            <a:ext cx="2895840" cy="1295280"/>
          </a:xfrm>
          <a:prstGeom prst="cloudCallout">
            <a:avLst>
              <a:gd name="adj1" fmla="val -57236"/>
              <a:gd name="adj2" fmla="val 59680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64920" y="706320"/>
            <a:ext cx="31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动动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记 一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65160" y="3016080"/>
            <a:ext cx="301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预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专心听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复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4243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895480"/>
            <a:ext cx="838080" cy="704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62720" y="3962520"/>
            <a:ext cx="914400" cy="768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81480" y="3352680"/>
            <a:ext cx="838440" cy="704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05520" y="4572000"/>
            <a:ext cx="8380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956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557280"/>
            <a:ext cx="928440" cy="1119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12880" y="954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72440" y="2556000"/>
            <a:ext cx="691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在人类机体活动中，没有任何东西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节奏性更有力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苏联生物学家：巴甫洛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3520" y="5867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2960" y="380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根据我们的年龄来规定作息时间。一般来讲，我们做计划的时候不要眼高手低，每一段学习时间不要太长，要注意学习、休息和睡眠的结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5867280"/>
            <a:ext cx="914400" cy="770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04880" y="3857760"/>
            <a:ext cx="79056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安排内容要动静结合。把不同类的活动和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内容交替进行，这样我们的身体各部分才能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到轮换休息，可防止脑神经细胞和肌肉的疲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066680" y="220968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048120" y="2743200"/>
            <a:ext cx="4572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琥珀"/>
              </a:rPr>
              <a:t>怎样制订学习计划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7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059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1981080" cy="1487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276720" y="2743200"/>
            <a:ext cx="396216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琥珀简体"/>
              </a:rPr>
              <a:t>预习的作用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琥珀简体"/>
              <a:ea typeface="方正琥珀简体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990720"/>
            <a:ext cx="775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使我们在课前对上课的内容有一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大致的了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1734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我们带着问题听课，更能提高听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效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504720"/>
            <a:ext cx="2514600" cy="1019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14400" y="16765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文鼎花瓣体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文鼎妞妞体"/>
              </a:rPr>
              <a:t>应付今天的学习都来不及了，哪有时间去预习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58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22800" y="4299120"/>
            <a:ext cx="7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可利用老师课堂前的时间预习当节课要进行的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每天抓紧做功课的时间，挤出部分时间预习第二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学习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38880" y="5715000"/>
            <a:ext cx="838440" cy="704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29600" y="5715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76320" y="3276720"/>
            <a:ext cx="2743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5:03:24Z</dcterms:created>
  <dc:creator>user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54:27Z</dcterms:modified>
  <cp:revision>72</cp:revision>
  <dc:subject>主题班会课件(分28大类): http://shop62905894.taobao.com</dc:subject>
  <dc:title>主题班会课件(分28大类): http://shop62905894.taobao.com</dc:title>
</cp:coreProperties>
</file>